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0B6-1A1F-4FCC-BAE2-1F8BCBD7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029-B3D0-4688-9888-EDC9D67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3C2-DBF0-453E-BA55-64166114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6D1-D00A-4263-8659-B1F4C8AD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2CBD-CC64-49DD-82F2-2A9AB988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20B-AEA9-431A-9186-48D6CDAB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6815-1504-4FF0-96EA-66F6A3F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39B3-D5F1-43D3-A1AF-BD59F5D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BC5-2C63-4D68-8F83-59D08BB1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ED0-0474-4DD5-9AB7-F00B36E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42F-5566-4BB0-9184-2F4372D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55B-25BD-451D-9A98-5B92458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A541-D455-49BC-987C-5BCA3AC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2EE8-59B7-477B-BDBE-2CCE88D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B71-48B1-4E9D-A372-F7FE5D3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3ADE-DA49-496C-8513-B98442DC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906-D5A0-42DD-B6F6-17100180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722-ECFF-4333-A988-6111B4F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800-7FDC-470F-B1A2-9573A7E2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00B-EBE2-4754-8161-78FA3644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4CF-8DC3-4E14-87B6-B3B147E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72B-4682-46CE-B00F-479C8BE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48B-FFB1-4BA9-85B9-682F9C3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FDC-8B54-4C6A-BB63-AC1E5337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84D-56E2-4DC4-9140-4F0027BD3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201-72C4-4E29-97AD-2FA602BDDB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Gill Sans Ultra Bold"/>
              </a:rPr>
              <a:t>Graphing Basic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81080" y="2100240"/>
            <a:ext cx="5105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hat do I put w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X-ax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 independent variable; what you are chan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Y-ax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 dependent variable; what you are meas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ways label each axis with the variable and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7520" y="2262240"/>
            <a:ext cx="3949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What scale do I choose to put on the axi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2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ok at the lowest # and highest # that will need to be on the ax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ke sure the increments a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qua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quidista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ame scale does not have to be on each ax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may make a “break” in the axis if necess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31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09840" y="1066680"/>
            <a:ext cx="6948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CIRCLE YOUR DATA PO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makes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ints clear.  Th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n’t disappear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aw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800600" cy="373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" y="4092480"/>
            <a:ext cx="358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Best Fit 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4276800"/>
            <a:ext cx="3581640" cy="25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3505320" cy="27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4098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olation vs. Extrapo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terp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stimating a value between two known points on a grap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Extrap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estimating a value outside the known values (extending the grap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724280" cy="22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4191120"/>
            <a:ext cx="4724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5438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Gill Sans Ultra Bold"/>
              </a:rPr>
              <a:t>Graphing Checkli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it have a TIT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axes labeled with name of the variable and uni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increments equal &amp; equidista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use as much of the available graph paper as poss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your points circl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IV on the x-axis and the DV on the y-ax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3:54:00Z</dcterms:created>
  <dc:creator>jluckey</dc:creator>
  <dc:description/>
  <dc:language>en-US</dc:language>
  <cp:lastModifiedBy>jluckey</cp:lastModifiedBy>
  <dcterms:modified xsi:type="dcterms:W3CDTF">2010-08-31T20:28:29Z</dcterms:modified>
  <cp:revision>3</cp:revision>
  <dc:subject/>
  <dc:title>Graphing Basics</dc:title>
</cp:coreProperties>
</file>